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3B5BF-9A31-44CF-BB32-2C2DD818BB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5EF1-3509-4E76-B674-238844FA3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9DE16-CF74-45C6-A9D3-1780C700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5E66-3873-47ED-B36B-0EF715C3E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F98E1-7A0F-4CCD-9521-F2900880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532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46640" y="13410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2400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532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46640" y="388836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738B-9E3C-4636-BC4C-AAF9E122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9A86-563D-42A1-9639-B3D907C96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A215-C43F-48B7-9C98-248B4A51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CAA35-6FD7-4BA8-82C5-C9079B73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D8A4-5844-4DC6-9938-F11E3DDB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36160" y="388836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EE9FE-2140-4290-B914-072E696F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36160" y="13410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24000" y="388836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5341B-8F5B-485A-A829-764BC81A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F6BC-0E49-4CC8-B11E-0C9F9BDCD58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349360"/>
            <a:ext cx="4464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第九章 传染病社区管理与患者的居家护理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社区传染病患者的访视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访视时间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首次家庭访视应在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小时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一次复访一般为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第二次复访一般在发病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左右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已转为慢性的患者，每年至少再访视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次。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80720" y="1267920"/>
            <a:ext cx="8962920" cy="509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访视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58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初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核实诊断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调查来源，判断疫情性质及蔓延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采取切实可行的防疫措施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对患者及其家属进行健康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了解患者和家属的心理状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填写“传染病调查表”或其他相关表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复访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全面了解患者病程，病情发展情况或痊愈情况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社区的防疫措施是否具体落实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填写“传染病复访表”或其他相关表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依据实际情况确定下次是否复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二节 社区常见传染病患者的居家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68360" y="1988640"/>
            <a:ext cx="4321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病毒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肺结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艾滋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细菌性痢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手足口病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Verdana"/>
                <a:ea typeface="宋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潜伏期：甲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月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丁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平均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12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按临床经过将病毒性肝炎分为急性肝炎，慢性肝炎，重型肝炎，淤胆型肝炎，肝炎肝硬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</a:rPr>
              <a:t>．急性肝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黄疸型肝炎：分为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个阶段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①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前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②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黄疸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③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无黄疸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黑体"/>
              </a:rPr>
              <a:t>    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82090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中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度慢性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亚急性重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重型肝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淤胆型肝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肝炎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68000" y="1339560"/>
            <a:ext cx="81550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传染源是急性期患者和亚临床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、丙型、丁型肝炎传染源分别是急性和慢性（含肝炎后肝硬化）的乙型、丙型、丁型肝炎患者和病原携带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50920" y="1371240"/>
            <a:ext cx="8664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复述传染病的概念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说出传染病流行过程及影响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区分各类传染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叙述传染病的社区管理内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举例说明病毒性肝炎、肺结核、艾滋病患者居家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</a:rPr>
              <a:t>能准确应用所学知识对社区传染病患者进行居家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304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、戊型肝炎的主要传播途径是粪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传播；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、丁型肝炎主要经体液和血液传播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型肝炎主要是通过输血和血制品的应用、使用 消毒不严格的医疗器械、血液透析、器官移植以及母婴传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520" y="1485720"/>
            <a:ext cx="8143920" cy="47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类对各型肝炎普遍易感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以幼儿、学龄前儿童发病最多，但遇有爆发流行时各年龄组均有发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BV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感染多发生于婴儿及青少年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丙型肝炎多见于成年人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以中老年人发病居多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甲型肝炎秋冬季高发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戊型肝炎流行多发生于雨季或洪水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乙、丙、丁型肝炎的发病无明显季节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我国的流行情况是以乙、丙型肝炎为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4000" y="133992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病毒性肝炎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皮肤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宣传各种类型病毒性肝炎的预防知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介绍家庭隔离的必要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一、病毒性肝炎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41440" y="1269720"/>
            <a:ext cx="8208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发热为最常见全身症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呼吸系统症状：咳嗽、咳痰、咯血、胸痛、呼吸困难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部分患者有倦怠乏力、盗汗、食欲减退和体重减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8610480" cy="497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是痰中带菌的肺结核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飞沫传播是肺结核最重要的传播途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人群易感性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年四季都可以发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6104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肺结核患者的护理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防治知识的教育，提高患者治疗依从性及家属的责任心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养成良好的卫生习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）预防感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肺结核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急性感染期（</a:t>
            </a:r>
            <a:r>
              <a:rPr b="0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I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无症状感染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Ⅱ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前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Ⅲ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Ⅳ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期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患者和无症状病毒携带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性传播、血液传播及母婴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人群易感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：各个年龄均可感染，主要是指男性同性恋者、静脉吸毒成瘾者、血友病患者，接受输血及其他血制品者等高危人群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9"/>
          <p:cNvSpPr/>
          <p:nvPr/>
        </p:nvSpPr>
        <p:spPr>
          <a:xfrm>
            <a:off x="539640" y="307944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黑体"/>
              </a:rPr>
              <a:t>第一节  概述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24000" y="1270080"/>
            <a:ext cx="8610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艾滋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25092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患者认真讲解本病知识、保护他人和自我保护的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教育适龄人群正确认识艾滋病，使他们认识到艾滋病是可以预防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树立健康积极的恋爱、婚姻、家庭及性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正确认识在工作和生活中与人类免疫缺陷病毒感染者的接触，避免产生恐惧心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三、艾滋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菌痢潜伏期多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，最短为数小时，最长到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周，通常分急、慢性两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94920" y="1413000"/>
            <a:ext cx="8472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急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普通型（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轻型（非典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重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慢性菌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迁延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急性发作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慢性隐匿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07520" y="1628640"/>
            <a:ext cx="87361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染源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包括急、慢性菌痢患者和带菌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经粪一口途径传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群普遍易感，易再次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散发，有明显的季节性，以夏秋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细菌性痢疾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323640" y="1628280"/>
            <a:ext cx="8537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菌痢相关知识的教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向慢性菌痢患者介绍急性发作的诱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病情稳定后，进行适当的体育锻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特殊岗位应调离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四、细菌性痢疾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431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</a:rPr>
              <a:t>（一）临床表现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此病的潜伏期为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急性起病，发热、咳嗽、流涕、食欲缺乏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腔黏膜出现小疱疹，手、足和臀部出现斑丘疹、疱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斑丘疹很快转为小疱疹，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～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天自行吸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部分病例仅表现为皮疹及疱疹性咽峡炎；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一般预后良好，少数患者可出现脑炎、脑脊髓炎、脑膜炎、肺水肿、循环衰竭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4360" y="1196640"/>
            <a:ext cx="82310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流行病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患者和隐性感染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主要经粪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—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口和（或）呼吸道飞沫传播，亦可经接触患者皮肤、黏膜疱疹液而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性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人对肠道病毒普遍易感，病毒的各型间无交叉免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4.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流行特征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无明显地区性。一年四季均可发病，以夏、秋季多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133956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三）居家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手足口病患者的护理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饮食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用药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日常生活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家庭的消毒隔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00"/>
                </a:solidFill>
                <a:uFillTx/>
                <a:latin typeface="Verdana"/>
              </a:rPr>
              <a:t>传染病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（</a:t>
            </a:r>
            <a:r>
              <a:rPr b="1" lang="en-US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communicable diseases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或称传染性疾病，是由病原微生物（病毒、细菌、衣原体、立克次体、螺旋体、真菌等）和寄生虫（原虫、蠕虫或医学昆虫）感染人体后所引起的具有传染性的疾病。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对患者及家属进行手足口病防治知识的教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积极参与手足口病防控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密切接触者应高度重视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五、手足口病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思考题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95280" y="1341360"/>
            <a:ext cx="85392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、传染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病常见的传播途径有几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预防包括哪些方面的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保护易感人群的措施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传染病患者的访视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区结核病患者的健康教育主要包括哪些内容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艾滋病的传播途径有哪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一、传染病的流行过程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69992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染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传播途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易感人群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二、影响传染病流行的因素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7777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自然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．社会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三、传染病的分类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1048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004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年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日起施行的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中华人民共和国传染病防治法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将传染病分为甲、乙、丙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类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7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后加上手足口病、甲型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H1N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流感，共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39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四、传染病社区管理 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610480" cy="516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一）社区传染病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预防接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儿童计划免疫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根据疫情组织的免疫接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改善社区卫生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414440"/>
            <a:ext cx="86104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黑体"/>
              </a:rPr>
              <a:t>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</a:rPr>
              <a:t>（二）社区传染病的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1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染源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传染病报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）针对传染源管理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传播途径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</a:rPr>
              <a:t>3.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</a:rPr>
              <a:t>易感人群的管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cp:lastPrinted>2015-05-04T04:05:40Z</cp:lastPrinted>
  <dcterms:modified xsi:type="dcterms:W3CDTF">2015-08-28T08:31:33Z</dcterms:modified>
  <cp:revision>11</cp:revision>
  <dc:subject/>
  <dc:title>第九章 传染病社区管理与患者的居家护理</dc:title>
</cp:coreProperties>
</file>